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25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13.pct" ContentType="image/x-pict"/>
  <Override PartName="/ppt/media/jeop.wav" ContentType="audio/x-wav"/>
  <Override PartName="/ppt/media/image7.pct" ContentType="image/x-pict"/>
  <Override PartName="/ppt/media/image37.pct" ContentType="image/x-pict"/>
  <Override PartName="/ppt/media/image12.pct" ContentType="image/x-pict"/>
  <Override PartName="/ppt/media/image49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41.pct" ContentType="image/x-pict"/>
  <Override PartName="/ppt/media/image30.pct" ContentType="image/x-pict"/>
  <Override PartName="/ppt/media/image2.jpeg" ContentType="image/jpeg"/>
  <Override PartName="/ppt/media/image28.pct" ContentType="image/x-pict"/>
  <Override PartName="/ppt/media/image42.pct" ContentType="image/x-pict"/>
  <Override PartName="/ppt/media/image43.pct" ContentType="image/x-pict"/>
  <Override PartName="/ppt/media/image32.pct" ContentType="image/x-pict"/>
  <Override PartName="/ppt/media/image44.pct" ContentType="image/x-pict"/>
  <Override PartName="/ppt/media/image45.pct" ContentType="image/x-pict"/>
  <Override PartName="/ppt/media/image46.pct" ContentType="image/x-pict"/>
  <Override PartName="/ppt/media/image53.png" ContentType="image/png"/>
  <Override PartName="/ppt/media/image50.pct" ContentType="image/x-pict"/>
  <Override PartName="/ppt/media/image11.pct" ContentType="image/x-pict"/>
  <Override PartName="/ppt/media/image48.pct" ContentType="image/x-pict"/>
  <Override PartName="/ppt/media/image51.pct" ContentType="image/x-pict"/>
  <Override PartName="/ppt/media/image40.pct" ContentType="image/x-pict"/>
  <Override PartName="/ppt/media/image52.pct" ContentType="image/x-pict"/>
  <Override PartName="/ppt/media/image29.pct" ContentType="image/x-pict"/>
  <Override PartName="/ppt/media/image39.pct" ContentType="image/x-pict"/>
  <Override PartName="/ppt/media/image9.pct" ContentType="image/x-pict"/>
  <Override PartName="/ppt/media/image4.pct" ContentType="image/x-pict"/>
  <Override PartName="/ppt/media/image34.pct" ContentType="image/x-pict"/>
  <Override PartName="/ppt/media/image38.pct" ContentType="image/x-pict"/>
  <Override PartName="/ppt/media/image8.pct" ContentType="image/x-pict"/>
  <Override PartName="/ppt/media/image6.pct" ContentType="image/x-pict"/>
  <Override PartName="/ppt/media/image36.pct" ContentType="image/x-pict"/>
  <Override PartName="/ppt/media/image10.pct" ContentType="image/x-pict"/>
  <Override PartName="/ppt/media/image47.pct" ContentType="image/x-pict"/>
  <Override PartName="/ppt/media/image5.pct" ContentType="image/x-pict"/>
  <Override PartName="/ppt/media/image3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CF1-918E-4371-928D-F1440A0E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2F2-AEFF-4222-A033-FE0D605F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BFB-8458-4926-B47C-50E8A861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6E8-294F-42E5-BBA5-CD786E3E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066F-5593-4495-9D26-B07200DB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5445-299A-445A-BA89-487570EC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F32C-0ADA-42D8-A3B4-83DFA6CA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E50E-6597-4F4A-8921-8DBA6AE3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5489-46FB-412F-9FD0-AAC90405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CD3A-9D49-4115-B554-BF631A50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B7D5-70D4-4184-AAC3-77BA450F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11A-64BF-4C1B-9057-ED7ADEF7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976B-A90C-4AF7-931E-D13B3559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9B0A-E896-429B-9DC6-65FBF6D4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D80C-D404-4A09-8B2F-91718EF5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7CC7-CCEB-46C6-8674-CD08A4D3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2B33-B623-4E2D-9C98-46E58982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ED9-553C-4A6E-A2C8-76186B1C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5D7-AF99-4E21-A4F3-01B04978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E52-29D0-47E3-8267-25142A4B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A66-D4AC-4525-B82B-0DDC3AAD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F38-C6A1-45C8-BF9A-D2244DA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B47-C23D-4F31-BCA6-02D23990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916-7C2D-43B7-8313-C0BB3BA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39A-DDC3-4CC1-B6FD-B6498F25A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E0B6-95C4-45B1-B345-69A35F5F6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ct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ct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ct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ct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ct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ct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ct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ct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pct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ct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ct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ct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ct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ct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pct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ct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pct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ct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ct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ct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pct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ct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7.pct"/><Relationship Id="rId5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ct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ct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pct"/><Relationship Id="rId5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ct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23880"/>
          <a:ext cx="777528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1760" y="15238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520" y="15238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7480" y="1523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1360" y="152388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65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88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2819520" y="2209680"/>
          <a:ext cx="364464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209680"/>
                    <a:ext cx="364464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0" y="2209680"/>
          <a:ext cx="4419720" cy="14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209680"/>
                    <a:ext cx="441972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685800" y="2438280"/>
          <a:ext cx="7689960" cy="17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76899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2743200" y="2438280"/>
          <a:ext cx="2971800" cy="186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438280"/>
                    <a:ext cx="2971800" cy="18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609480" y="2666880"/>
          <a:ext cx="800100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666880"/>
                    <a:ext cx="8001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2895480" y="2743200"/>
          <a:ext cx="2863800" cy="15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743200"/>
                    <a:ext cx="2863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1676520" y="2590920"/>
          <a:ext cx="5715000" cy="13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590920"/>
                    <a:ext cx="571500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3809880" y="2286000"/>
          <a:ext cx="131472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2286000"/>
                    <a:ext cx="131472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666880"/>
          <a:ext cx="556236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666880"/>
                    <a:ext cx="556236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2971800" y="2514600"/>
          <a:ext cx="314964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514600"/>
                    <a:ext cx="314964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666880" y="2362320"/>
          <a:ext cx="3124440" cy="21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362320"/>
                    <a:ext cx="312444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1676520" y="2666880"/>
          <a:ext cx="539748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666880"/>
                    <a:ext cx="53974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3581280" y="2438280"/>
          <a:ext cx="2286000" cy="19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438280"/>
                    <a:ext cx="22860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2286000" y="2209680"/>
          <a:ext cx="4648320" cy="18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09680"/>
                    <a:ext cx="464832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819520" y="2362320"/>
          <a:ext cx="294624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362320"/>
                    <a:ext cx="2946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2057400" y="2286000"/>
          <a:ext cx="488952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286000"/>
                    <a:ext cx="488952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2895480" y="2209680"/>
          <a:ext cx="2756160" cy="18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275616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1143000" y="1981080"/>
          <a:ext cx="6400800" cy="14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640080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1905120" y="2286000"/>
          <a:ext cx="5181480" cy="16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286000"/>
                    <a:ext cx="518148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762120" y="1981080"/>
          <a:ext cx="7696080" cy="215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81080"/>
                    <a:ext cx="769608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2209680" y="2362320"/>
          <a:ext cx="4718160" cy="13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362320"/>
                    <a:ext cx="47181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3581280" y="2133720"/>
          <a:ext cx="137808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133720"/>
                    <a:ext cx="1378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1981080" y="2133720"/>
          <a:ext cx="4724640" cy="16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133720"/>
                    <a:ext cx="472464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2438280" y="2133720"/>
          <a:ext cx="381024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2133720"/>
                    <a:ext cx="38102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3276720" y="1981080"/>
          <a:ext cx="1585800" cy="22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981080"/>
                    <a:ext cx="15858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3962520" y="2286000"/>
          <a:ext cx="988920" cy="13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286000"/>
                    <a:ext cx="9889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3886200" y="1828800"/>
          <a:ext cx="1276200" cy="25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828800"/>
                    <a:ext cx="12762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3581280" y="1905120"/>
          <a:ext cx="1724040" cy="246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1905120"/>
                    <a:ext cx="172404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3200400" y="1752480"/>
          <a:ext cx="243828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752480"/>
                    <a:ext cx="24382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3505320" y="1828800"/>
          <a:ext cx="1906560" cy="23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828800"/>
                    <a:ext cx="190656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2971800" y="1676520"/>
          <a:ext cx="2673360" cy="25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676520"/>
                    <a:ext cx="267336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2971800" y="1905120"/>
          <a:ext cx="2514600" cy="21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905120"/>
                    <a:ext cx="251460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981080" y="2057400"/>
          <a:ext cx="4648320" cy="26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57400"/>
                    <a:ext cx="464832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971800" y="2133720"/>
          <a:ext cx="2971800" cy="27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133720"/>
                    <a:ext cx="297180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3200400" y="2057400"/>
          <a:ext cx="2381400" cy="21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057400"/>
                    <a:ext cx="23814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3429000" y="1905120"/>
          <a:ext cx="2295360" cy="25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905120"/>
                    <a:ext cx="22953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3733920" y="2209680"/>
          <a:ext cx="1035000" cy="168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2209680"/>
                    <a:ext cx="103500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3048120" y="1600200"/>
          <a:ext cx="257652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00200"/>
                    <a:ext cx="25765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0" name=""/>
          <p:cNvGraphicFramePr/>
          <p:nvPr/>
        </p:nvGraphicFramePr>
        <p:xfrm>
          <a:off x="2895480" y="1828800"/>
          <a:ext cx="2540160" cy="19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828800"/>
                    <a:ext cx="254016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3352680" y="2057400"/>
          <a:ext cx="2133720" cy="19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057400"/>
                    <a:ext cx="213372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3124080" y="2133720"/>
          <a:ext cx="2971800" cy="20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2133720"/>
                    <a:ext cx="2971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3124080" y="1981080"/>
          <a:ext cx="266724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981080"/>
                    <a:ext cx="266724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2819520" y="2209680"/>
          <a:ext cx="2921040" cy="18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209680"/>
                    <a:ext cx="292104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2133720" y="2209680"/>
          <a:ext cx="4213080" cy="215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09680"/>
                    <a:ext cx="421308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"/>
          <p:cNvGraphicFramePr/>
          <p:nvPr/>
        </p:nvGraphicFramePr>
        <p:xfrm>
          <a:off x="2819520" y="2133720"/>
          <a:ext cx="2895480" cy="20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133720"/>
                    <a:ext cx="289548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2514600" y="1981080"/>
          <a:ext cx="3638520" cy="255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981080"/>
                    <a:ext cx="36385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0320" y="2438280"/>
            <a:ext cx="72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dicals are the inverse oper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what other mathematical oper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6680" y="2743200"/>
            <a:ext cx="254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on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1747800" y="1870200"/>
          <a:ext cx="5300640" cy="26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7800" y="1870200"/>
                    <a:ext cx="530064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1538280" y="1944720"/>
          <a:ext cx="5699160" cy="304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8280" y="1944720"/>
                    <a:ext cx="569916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2238480" y="2286000"/>
          <a:ext cx="4611600" cy="14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8480" y="2286000"/>
                    <a:ext cx="461160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971800" y="2362320"/>
          <a:ext cx="3124080" cy="11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362320"/>
                    <a:ext cx="312408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A Department of Education</cp:lastModifiedBy>
  <dcterms:modified xsi:type="dcterms:W3CDTF">2008-10-20T17:33:47Z</dcterms:modified>
  <cp:revision>22</cp:revision>
  <dc:subject/>
  <dc:title>Jeopardy</dc:title>
</cp:coreProperties>
</file>